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A3FF-E515-4077-9428-BF75BF476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D293-2EA1-45EB-B6FF-9E209D28C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C3F6-C112-4040-B313-C2DC78E56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C8C0-6F53-4B74-B9B4-A55F4DCCA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31E59-7A8C-4149-91EB-A091B1C12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C0430-D1DF-4BF8-8618-460D816E9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79D34-4683-43B2-B5C6-D854AE6BD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E9B1A-029D-475D-8569-D518FA08D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4357E-B430-411C-9DB1-4D5F4530F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B0A08-6CD3-474C-924F-5D221DBB4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0B842-7AC7-4A91-9557-77EEC7E2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62AC-EE05-48E2-8194-C91BC605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23C68-D106-4A14-822C-1C6610BB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D7732-0772-41F0-A6BE-4FD6078C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14792-2DFE-4570-9099-0302BBE9F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640C3-ED72-4108-98C7-361F35DCB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0C22A-9B67-4208-A0D5-BC8E87B08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54539-9D26-4482-9BC7-F27FC4150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FF284-08AB-41CE-8C7F-2AE46F2D0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4382A-CB73-4550-96A2-8C139B6F0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DF5A0-7674-4750-8046-A4D32F43F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7BB85-073B-4339-8066-051506632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A91C-5CFC-4793-96E0-53CC2F656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16954-1CDF-4EB8-97C2-614459D48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B170F-316E-4E47-9A11-55E8F877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73F7A-93C7-4250-ACAF-3711EDA5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9CB5E-52FB-4F97-94A5-539F3DEE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15616-2DF9-4EAA-952C-8A15FC9A2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FF7C0-9DC5-495D-B9A9-871C3C1E1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5B234-0BE0-4729-89F9-A92DA86C3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865FB-B0A4-48E6-9CCF-0C50B8B2A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14E97-CDC3-4785-8329-222316035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B3D02-E35E-487B-9C0F-C7F11F72E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49E3-96D8-43E8-ACFF-493B579A0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009C9-3BD2-4500-8373-5E75A4D56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1BC53-6573-4112-9E8D-A6E3B4664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9435E-A576-4E64-8BA6-ADCE88F1B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39CD7-5E46-4A0F-A48B-088D8AF2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8FF17-7F6F-4645-A656-6F690129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50ADA-0ED2-4FAD-B8F8-CF9433C8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F8684-2378-44BC-89DE-5B191099C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F95EE-AA86-4A90-82FD-BD9CFA8A4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AA326-2D99-49E4-92AB-0792B2EB4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A25FE-7860-4187-9822-95915FC83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A21B-44D9-42D5-A22F-25B3A72B0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23A3B-6F14-427B-A965-1BBDD4CC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AD06C-9D49-4A17-AA0C-750C29F96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61918-8E8F-4C9A-91AD-84A199D06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BE024-7698-410C-A136-4ED367E23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55085-832C-44CF-9A99-A19A852C8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A3CA0-A46E-44B7-B446-B6E65AF2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975E5-2C35-4C2A-BE58-577AC2B7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3EA1A-E425-4848-A946-596C2BDA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92794-F4DA-4BA7-951F-F2D7B18E6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A4192-EE03-4662-8C72-4A5ED6836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8527-56B7-4DC0-86E3-7309031C8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45219-5B07-4325-8F88-3E9589F8F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A1D1B-C1AB-4569-AFBF-2A56E5CDD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34EF6-628B-4B5F-9791-28738CB84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C43DA-94F4-427A-A122-E348F11C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EFE85-90DC-499E-8C6D-FB875D0DE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B7E48-75D7-4C8C-9B7A-0A73C37B7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92567-B0FC-445C-86B8-6E2612E2C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41503-6C55-4D58-AAE1-9D578FC7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0AA9D-27CF-4CC5-963F-25E80E4E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71E70-65C7-4FD3-9626-7EB92023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91E4-FC8D-4AA1-9E9D-3FE678EB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4FEFB6-3723-4FA7-8414-452DB8405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634B4-96C5-42B7-9A5A-4C564D2F3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2FD89-A64A-44FF-AE72-396126D8E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5E7A-937E-4D06-84DC-F9F281ED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4EC4-D104-4E2F-8285-9F08F0E8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09D67-9BC7-463E-9268-4D2624A5E7C6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95926-222E-41BF-84C3-AD3E5218CF9D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0E6FF-874E-4395-AD67-B9C1DE3CA176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D7B5F-BC5C-4E74-AADD-2FD817958EE1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F1105-94B8-471E-9C00-4464CBED569E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A2A08-A585-4FA5-A959-EB2E40337B24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ectangle 2" descr=""/>
          <p:cNvPicPr/>
          <p:nvPr/>
        </p:nvPicPr>
        <p:blipFill>
          <a:blip r:embed="rId1"/>
          <a:stretch/>
        </p:blipFill>
        <p:spPr>
          <a:xfrm>
            <a:off x="682560" y="2163600"/>
            <a:ext cx="8186760" cy="148140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837720" y="3809520"/>
            <a:ext cx="6480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Diagnosi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6840" y="18288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hysical Exam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s and symptoms vary with the drug(s) used by the m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rity of withdrawal may not correlate with dose or duration of drug expo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Signs and Symptom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75248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erirri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d deep tendon and primitive reflex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d muscle t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mors and myoclonic je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-pitched c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keful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iz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Signs and Symptom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09120" y="1676520"/>
            <a:ext cx="815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7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etabolic/Motor/Respirator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tt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e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ri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neezing/conges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a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aw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cc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d rooting reflex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coordinated suck and swal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ilure to gain we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chypnea/nasal fla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Signs and Symptom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6840" y="167652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urgi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ose stools/diarrh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Diagnosi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560" y="137160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tients are usually observed for at least 3-5 days for S/S of withdrawal before they are discharged h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bstinence scoring is a way to assess withdrawal sig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re are several abstinence scoring systems, but none have been adopted as the standar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Finnegan scoring system is the most comprehensive and widely us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core of 7 or less is considered mild withdrawal and infants do well with non-pharmacologic comfort mea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eated scores of 8 or more generally indicate the need for pharmacologic thera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2" name="Object 2"/>
          <p:cNvGraphicFramePr/>
          <p:nvPr/>
        </p:nvGraphicFramePr>
        <p:xfrm>
          <a:off x="2133720" y="-20520"/>
          <a:ext cx="4860720" cy="687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-20520"/>
                    <a:ext cx="4860720" cy="68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Title 3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960960" cy="244476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Studies On NA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imitation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ine tox screens do not reflect drug exposure throughout pregna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women who use drugs are multiple drug users, and also drink alcohol and smoke cigaret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fore, it is difficult to isolate the effect of one dru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Opiat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85200" indent="-35172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ost frequent cause of N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85200" indent="-35172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nset of symptoms: Minutes after delivery to 2-3 days of lif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85200" indent="-35172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nical course: Variable, can show any of the s/s mentioned before, s/s can persist up to 3-6 month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85200" indent="-35172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ognosis: Good, minimal teratogenicity, good catch up growth by 1-2 years, most have normal cognitive and motor development at 5-6 years with long term follow-u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Barbiturat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/S similar to opiates except onset usually later (4-7 days after birth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uration of s/s usually 2-6 weeks, but can last as long as 4 month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Definition of Neonatal Abstinence Syndrome (NAS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233208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 condition that an infant experiences when withdrawing from certain drugs that his/her mother took during pregnanc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Benzodiazepin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ot much is known about benzodiazepin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/S similar to opiate withdraw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nset: usually not until 1st few days after birt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ever, there has been a reported case where s/s started 21 days after birth with chlordiazepoxide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Alcohol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44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remost drug used toda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nset: 3-12 hours after deliver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/S: More CNS effects, less severe and of shorter duration than withdrawal from opiat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ore concerning is the risk for Fetal Alcohol Syndrome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5-40% risk in infants born to alcoholic wo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ated to alcohol d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jor cause of mental retardation to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Fetal Alcohol Syndrome (FAS)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22160" indent="-2728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riteria for FA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80000"/>
              </a:lnSpc>
              <a:spcBef>
                <a:spcPts val="70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natal or postnatal growth retard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80000"/>
              </a:lnSpc>
              <a:spcBef>
                <a:spcPts val="70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NS involvement: developmental delays, behavioral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80000"/>
              </a:lnSpc>
              <a:spcBef>
                <a:spcPts val="70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ysmorphic Facial Features: microcephaly, microphthalmia, short palpebral fissures, poorly developed philtrum, thin upper lip, hypoplastic maxil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umerous congenital anomalies are associated with F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ny don’t meet the criteria, but present with fetal alcohol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effec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Fetal Alcohol Syndrom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99" name="Content Placeholder 3" descr="FAS.jpg"/>
          <p:cNvPicPr/>
          <p:nvPr/>
        </p:nvPicPr>
        <p:blipFill>
          <a:blip r:embed="rId1"/>
          <a:stretch/>
        </p:blipFill>
        <p:spPr>
          <a:xfrm>
            <a:off x="4648320" y="1905120"/>
            <a:ext cx="4216320" cy="34812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4" descr="FAS2.jpg"/>
          <p:cNvPicPr/>
          <p:nvPr/>
        </p:nvPicPr>
        <p:blipFill>
          <a:blip r:embed="rId2"/>
          <a:stretch/>
        </p:blipFill>
        <p:spPr>
          <a:xfrm>
            <a:off x="152280" y="1905120"/>
            <a:ext cx="4286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Stimulant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 common cause of N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ually see s/s that represent the direct effects of the stimulants themsel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set/Duration: Within first 72 ho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/S: Tremors, high pitched cry, irritability, excessive suck, hypertonia, tachycar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caine and Methamphetamine exposed fetuses have a high rate of spontaneous abortions, stillbirths, IUGR, prematurity, and asphyxia related to placental abru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Stimulant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0456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14720" indent="-37872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cain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s vasoconstriction and decrease in placental blood flow with consequent fetal hypox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s as a teratogen because of the vascular effects: CNS &amp; CV anomalies, limb defects, intestinal atre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nosi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94680" indent="-252720">
              <a:lnSpc>
                <a:spcPct val="80000"/>
              </a:lnSpc>
              <a:spcBef>
                <a:spcPts val="64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ually there is good catch up growth by 1 yea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94680" indent="-252720">
              <a:lnSpc>
                <a:spcPct val="80000"/>
              </a:lnSpc>
              <a:spcBef>
                <a:spcPts val="64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re may be speech and behavioral problems as children get old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94680" indent="-252720">
              <a:lnSpc>
                <a:spcPct val="80000"/>
              </a:lnSpc>
              <a:spcBef>
                <a:spcPts val="64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udies have shown no difference with respect to intellectual ability in children who were drug-exposed vs. placeb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Stimulant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ethamphetamin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drawal symptoms are less sev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nosis: Unclear, may be associated with neurocognitive defic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Marijuan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udies have suggested an increased risk of prematurity and lower birth weigh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ognosis: Higher incidence of ADHD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SSRI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10400" indent="-37476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use NAS in up to 1/3 of neonates exposed in uter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nset/Duration: Severely effected present in 1st 48 hours of life and resolve within 48 hou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/S: Tremors, hypertonia, irritability, GI disturbance, respiratory distres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07400" indent="-26712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/S usually self-limited &amp; does not require pharmacologic interv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7400" indent="-2671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roxetine with greatest propensity to cause N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reatmen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e Nursery Protoco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nifestations of drug withdrawal in some infants will resolve within a few days and drug therapy is not requir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infant’s withdrawal score should be assessed to monitor the progression of symptoms and adequacy of treatm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Incidence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98108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5-10% of deliveries nationwide are to women who have abused drugs during pregnancy (excluding alcohol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reatmen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reatment should always begin with non-pharmacological measur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ive car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4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nimize stimulation - keep baby in a darkened and quiet environment if possi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4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waddling and positioning - use gentle swaddling and positioning that encourages flexion rather than extens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4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event excessive crying with a pacifier, cuddling, etc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4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eeding should be on demand if possi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reatmen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cision for pharmacologic treatment is based on the infant’s abstinence scores and mechanism of action of the drug that the infant was exposed t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goal of therapy is to allow the infant to withdraw without excessive excitation that leads to withdrawal symptoms causing discomfor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reatmen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edication Choices and Doses -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phine Sulfate: high dose = 80-100 mcg/kg q4 hrs; low dose = 30-40 mcg/kg q4 h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adone: 0.05 – 0.2 mg/kg q12-24 h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prenorphine: 13.2 mcg/kg/day in 3 divided do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enobarbital: Loading = 16mg/kg per 24 hrs; Maintenance = 2 – 8 mg/kg/day in 2 divided do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zepam: 1 – 2 mg q8 – 12 h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reatmen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nce a pharmacologic dose has been advanced to its peak to keep patient comfortable, the dose is gradually weaned so the infant can tolerate mild symptoms of withdraw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length of time it takes to wean an infant off medication varies from infant to infa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reatmen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6840" y="160020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pioid withdrawal using oral morphine sulfate has been shown to be most effectiv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ose can be increased by 20% q8 hrs until s/s of withdrawal are controll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x dose: 0.2mg/kg/d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eaning process varies between provid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ually the peak dose is maintained x 72hrs, then wean by 20% every other 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reatmen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dditional use of Phenobarbital and/or Diazepam is much debated because of added depressant effects on an infant who is already on a narcotic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henobarbital mostly used for CNS withdrawal symptom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preferred for non-opiate related N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Breastfeedin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6840" y="15998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cohol – Not recommended if use is excessiv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cause drowsiness, diaphoresis, deep sleep, weakness, decreased linear growth, abnormal weight gain, and decreased maternal milk p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icotine – Controversi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osses into breast mil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decrease milk production and cause the baby to have poor weight 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Breastfeedin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mphetamine - Not recommend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cause irritability and poor sleeping hab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caine - Not recommend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cause irritability, vomiting, diarrhea, tremors, seiz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rijuana - No clear recommenda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mited stu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Breastfeedin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6840" y="16002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ethadone – Compatible with breastfeed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opiates are compatible with breastfeeding except for hero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al amounts cross into breast milk and there is poor oral bioavail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eroin - Not recommend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cause tremors, restlessness, poor feeding, vomi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Breastfeedin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6840" y="15998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SRIs - Generally safe for breastfeeding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traline and Paroxetine have minimal transfer into human mil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uoxetine produces significant plasma concentrations in some breastfeeding infants, which can caus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90000"/>
              </a:lnSpc>
              <a:spcBef>
                <a:spcPts val="64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lic, irritability, feeding and sleep disorders, slow weight gai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ants should be monitored for irritability and poor feeding, or breast milk can be pumped and dump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Pathophysiology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228240" y="144756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rugs of abuse are often of low molecular weight, water-soluble, and lipophilic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y are easily transferred across the placenta to the fetus, and across the blood-brain barrier of the fetu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/2 life of drugs usually prolonged in the fetu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rugs either bind to CNS receptors, or affect the release and reuptake of various neurotransmitt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y have long lasting effects on developing dendritic structures and are toxic to fetal cel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Long Term Managemen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uring the first few years, children exposed to drugs in utero can have neurologic problem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s places a difficult child in a difficult environm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ose follow-up and social services involvement may be requir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Risk Factors Associated with an Increased Incidence of Drug Abu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oor socioeconomic circumstanc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oor educ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eenage moth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oor prenatal ca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Other Conditions Associated with Drug Abu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6840" y="20574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ultiple drug abus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oor nutritional statu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nemi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fectious Disease (Hep B, syphilis, HIV, and other STD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Obstetric Complications Associated with Drug Abu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6840" y="20574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UG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tal Dist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mature Deli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rioamnion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ic to cocaine: HTN, cardiac arrhythmias, CVA, abruption, respiratory arrest, fetal dem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Diagnosis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80520" y="137160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istory: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drug users withhold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ails of the quantity and duration of abuse are unrel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abs: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ine tox only reflects intake from the last few days prior to delive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lse positive immunoassays can occur (i.e. morphine positive if took in poppy seeds or codeine from cold/cough medicine)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specific chromatography or mass spectrometry may determine the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Diagnosi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5998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ab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conium analysis reflects drug usage over a longer period and is more sensitive than uri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90000"/>
              </a:lnSpc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advantage = specimen requires processing prior to te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air analysis is the most sensitive test availa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90000"/>
              </a:lnSpc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litative relationship exists between amount of drug use and amount incorporated in the h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90000"/>
              </a:lnSpc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born hair can be obtained to reflect exposure during last trimester, and can be obtained later should symptoms occur where in-utero drug exposure was previously unsuspec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1T18:00:31Z</dcterms:created>
  <dc:creator>Ada Ho</dc:creator>
  <dc:description/>
  <dc:language>en-US</dc:language>
  <cp:lastModifiedBy>Health Services Department</cp:lastModifiedBy>
  <dcterms:modified xsi:type="dcterms:W3CDTF">2010-05-24T23:59:25Z</dcterms:modified>
  <cp:revision>24</cp:revision>
  <dc:subject/>
  <dc:title>Neonatal Withdrawl Syndrome</dc:title>
</cp:coreProperties>
</file>